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BE4-77B9-4585-9A6E-4C6591D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1D9-BAE1-46AF-AFA2-02085B4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E72-2903-4681-A3F0-61D07ECC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D1E-5D2C-46B3-95C6-BB41C7D9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12-7A7F-465A-A6A7-E7C8081A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E50-0E2F-4B97-9F14-986EEBA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736-DF1B-4891-A660-8A2A2846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386-8E47-4C0E-B5F8-E15D8E84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161-83AC-4D44-B159-885E64A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C3E-4DDC-4F23-BF73-7E40EFA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B4-A3ED-44F4-8D18-33337E6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DA1-EFE8-4DE7-90E1-F78EC756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091F-9DEB-4229-B15F-366A4B964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800" y="609480"/>
            <a:ext cx="6436800" cy="100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THE ROCK CY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1880" y="533520"/>
            <a:ext cx="81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is diagram similar and different from your own sk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7724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7440" y="762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5200" y="23623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72280" y="914400"/>
            <a:ext cx="4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8120" y="51814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rock is each process for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429000" cy="22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97180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975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440" y="6019920"/>
            <a:ext cx="6383520" cy="58140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</a:t>
            </a:r>
            <a:r>
              <a:rPr b="1" lang="en-US" sz="3200" spc="-1" strike="noStrike">
                <a:solidFill>
                  <a:srgbClr val="ff2134"/>
                </a:solidFill>
                <a:latin typeface="Times New Roman"/>
              </a:rPr>
              <a:t>IGNEOUS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5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954680" y="1752480"/>
            <a:ext cx="3573000" cy="8254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Extrusive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on or near the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5400" y="3962520"/>
            <a:ext cx="3385800" cy="8254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Intrusive igneous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below the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54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rocess is probably occurring here or did occur in the recent p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80600" y="5364000"/>
            <a:ext cx="6130440" cy="886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action under 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ing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DIMENTARY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371600"/>
          </a:xfrm>
          <a:prstGeom prst="rect">
            <a:avLst/>
          </a:prstGeom>
          <a:noFill/>
          <a:ln w="9360">
            <a:solidFill>
              <a:srgbClr val="39d02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rocess is probably occurring deep under these mountai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74360" y="5419800"/>
            <a:ext cx="7245720" cy="459720"/>
          </a:xfrm>
          <a:prstGeom prst="rect">
            <a:avLst/>
          </a:prstGeom>
          <a:noFill/>
          <a:ln w="9360">
            <a:solidFill>
              <a:srgbClr val="39d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d02b"/>
                </a:solidFill>
                <a:latin typeface="Times New Roman"/>
              </a:rPr>
              <a:t>Heat &amp;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orming </a:t>
            </a:r>
            <a:r>
              <a:rPr b="1" lang="en-US" sz="2400" spc="-1" strike="noStrike">
                <a:solidFill>
                  <a:srgbClr val="39d02b"/>
                </a:solidFill>
                <a:latin typeface="Times New Roman"/>
              </a:rPr>
              <a:t>METAMORPH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3244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791320"/>
            <a:ext cx="7772400" cy="83808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rocess is probably occurr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1160" y="5715000"/>
            <a:ext cx="6502320" cy="459720"/>
          </a:xfrm>
          <a:prstGeom prst="rect">
            <a:avLst/>
          </a:prstGeom>
          <a:noFill/>
          <a:ln w="9360">
            <a:solidFill>
              <a:srgbClr val="ff2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Melting &amp; Coo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orming </a:t>
            </a:r>
            <a:r>
              <a:rPr b="1" lang="en-US" sz="2400" spc="-1" strike="noStrike">
                <a:solidFill>
                  <a:srgbClr val="ff2134"/>
                </a:solidFill>
                <a:latin typeface="Times New Roman"/>
              </a:rPr>
              <a:t>IGNEOUS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05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4:00:52Z</dcterms:created>
  <dc:creator>Eric Knapp</dc:creator>
  <dc:description/>
  <dc:language>en-US</dc:language>
  <cp:lastModifiedBy>staff</cp:lastModifiedBy>
  <cp:lastPrinted>2005-03-03T11:12:43Z</cp:lastPrinted>
  <dcterms:modified xsi:type="dcterms:W3CDTF">2008-01-07T15:09:52Z</dcterms:modified>
  <cp:revision>88</cp:revision>
  <dc:subject/>
  <dc:title>PowerPoint Presentation</dc:title>
</cp:coreProperties>
</file>